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gif" ContentType="image/gif"/>
  <Override PartName="/ppt/media/image12.gif" ContentType="image/gif"/>
  <Override PartName="/ppt/media/image15.png" ContentType="image/png"/>
  <Override PartName="/ppt/media/image7.gif" ContentType="image/gif"/>
  <Override PartName="/ppt/media/image6.png" ContentType="image/png"/>
  <Override PartName="/ppt/media/image3.gif" ContentType="image/gif"/>
  <Override PartName="/ppt/media/SP0000.WAV" ContentType="audio/x-wav"/>
  <Override PartName="/ppt/media/image10.gif" ContentType="image/gif"/>
  <Override PartName="/ppt/media/image21.png" ContentType="image/png"/>
  <Override PartName="/ppt/media/image18.gif" ContentType="image/gif"/>
  <Override PartName="/ppt/media/image4.png" ContentType="image/png"/>
  <Override PartName="/ppt/media/image20.jpeg" ContentType="image/jpeg"/>
  <Override PartName="/ppt/media/image14.gif" ContentType="image/gif"/>
  <Override PartName="/ppt/media/image17.gif" ContentType="image/gif"/>
  <Override PartName="/ppt/media/image2.jpeg" ContentType="image/jpeg"/>
  <Override PartName="/ppt/media/image16.png" ContentType="image/png"/>
  <Override PartName="/ppt/media/image13.gif" ContentType="image/gif"/>
  <Override PartName="/ppt/media/image1.png" ContentType="image/png"/>
  <Override PartName="/ppt/media/image8.gif" ContentType="image/gif"/>
  <Override PartName="/ppt/media/image19.wmf" ContentType="image/x-wmf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46C-4C1D-4CCC-B965-0A66F20E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2846-FF6C-4333-B511-0CB06BA9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AB80-A449-469D-9A8C-CA211D5BE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1918-A77A-4B50-9D14-54DF947C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DE35-2105-423C-8AF6-976438CE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7CF4-82CA-4DDC-9B2A-1868E483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5D25-4310-4441-9CF4-9EC98BA4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568E-4816-4511-913C-F68109EB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07E04-F797-4ED5-9078-93E57645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A658-3FD7-45FF-B4DB-F8ED25F8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DDEA-2844-493A-A8A8-EB1D19D3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EA9F-CDB9-46EC-81F6-6B525A5A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E42D-7947-4339-89F6-07FF2C81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9A71-B0F9-4D8C-88CB-1E74137D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34C7-0C70-42A1-A9EA-C30304B0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71BE-6BB4-4D5A-8306-C8634F63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47415-EFCF-416C-9B35-27741F2F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F745-906B-4876-8281-030ADEBB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4EA2-CD06-4266-9C30-363DBFD9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D91-EA79-4041-817F-D0416329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2518-2F5F-4622-8BB2-0D322AB4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F9A-3BDF-415A-9135-4F70BA7C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7C6-F0CA-47CC-B84D-B84EBCDD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39E-3913-45A5-B715-5CF12826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642E-8C8E-4533-9328-A658EB7AB8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A771-0BA4-4496-A6CF-741C0B82D4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SP0000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1.gif"/><Relationship Id="rId8" Type="http://schemas.openxmlformats.org/officeDocument/2006/relationships/image" Target="../media/image11.gif"/><Relationship Id="rId9" Type="http://schemas.openxmlformats.org/officeDocument/2006/relationships/image" Target="../media/image11.gif"/><Relationship Id="rId10" Type="http://schemas.openxmlformats.org/officeDocument/2006/relationships/image" Target="../media/image11.gif"/><Relationship Id="rId11" Type="http://schemas.openxmlformats.org/officeDocument/2006/relationships/image" Target="../media/image12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image" Target="../media/image12.gif"/><Relationship Id="rId15" Type="http://schemas.openxmlformats.org/officeDocument/2006/relationships/image" Target="../media/image12.gif"/><Relationship Id="rId16" Type="http://schemas.openxmlformats.org/officeDocument/2006/relationships/image" Target="../media/image12.gif"/><Relationship Id="rId17" Type="http://schemas.openxmlformats.org/officeDocument/2006/relationships/image" Target="../media/image12.gif"/><Relationship Id="rId18" Type="http://schemas.openxmlformats.org/officeDocument/2006/relationships/image" Target="../media/image12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image" Target="../media/image11.gif"/><Relationship Id="rId22" Type="http://schemas.openxmlformats.org/officeDocument/2006/relationships/image" Target="../media/image11.gif"/><Relationship Id="rId23" Type="http://schemas.openxmlformats.org/officeDocument/2006/relationships/image" Target="../media/image11.gif"/><Relationship Id="rId24" Type="http://schemas.openxmlformats.org/officeDocument/2006/relationships/image" Target="../media/image11.gif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image" Target="../media/image14.gif"/><Relationship Id="rId9" Type="http://schemas.openxmlformats.org/officeDocument/2006/relationships/image" Target="../media/image13.gif"/><Relationship Id="rId10" Type="http://schemas.openxmlformats.org/officeDocument/2006/relationships/audio" Target="../media/SP0000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8.gif"/><Relationship Id="rId16" Type="http://schemas.openxmlformats.org/officeDocument/2006/relationships/image" Target="../media/image18.gif"/><Relationship Id="rId17" Type="http://schemas.openxmlformats.org/officeDocument/2006/relationships/image" Target="../media/image18.gif"/><Relationship Id="rId18" Type="http://schemas.openxmlformats.org/officeDocument/2006/relationships/image" Target="../media/image18.gif"/><Relationship Id="rId19" Type="http://schemas.openxmlformats.org/officeDocument/2006/relationships/image" Target="../media/image18.gif"/><Relationship Id="rId20" Type="http://schemas.openxmlformats.org/officeDocument/2006/relationships/image" Target="../media/image18.gif"/><Relationship Id="rId21" Type="http://schemas.openxmlformats.org/officeDocument/2006/relationships/image" Target="../media/image19.wmf"/><Relationship Id="rId22" Type="http://schemas.openxmlformats.org/officeDocument/2006/relationships/image" Target="../media/image19.wmf"/><Relationship Id="rId23" Type="http://schemas.openxmlformats.org/officeDocument/2006/relationships/image" Target="../media/image19.wmf"/><Relationship Id="rId24" Type="http://schemas.openxmlformats.org/officeDocument/2006/relationships/image" Target="../media/image19.wmf"/><Relationship Id="rId25" Type="http://schemas.openxmlformats.org/officeDocument/2006/relationships/image" Target="../media/image19.wmf"/><Relationship Id="rId26" Type="http://schemas.openxmlformats.org/officeDocument/2006/relationships/audio" Target="../media/SP0000.WAV"/><Relationship Id="rId2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10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audio" Target="../media/SP0000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image" Target="../media/image10.gi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476360" y="836640"/>
            <a:ext cx="453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BSERVA,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57440" y="3098880"/>
            <a:ext cx="4029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LCULEAZA 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348000" y="4508640"/>
            <a:ext cx="53341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BLEME ANIMA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08040" cy="16286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635960" y="1052640"/>
            <a:ext cx="1508040" cy="13683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3995640" y="1700280"/>
            <a:ext cx="1508400" cy="1657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2195640" y="1413000"/>
            <a:ext cx="1508040" cy="14396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0" y="1773360"/>
            <a:ext cx="1508040" cy="158436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>
            <a:off x="2124000" y="0"/>
            <a:ext cx="1508040" cy="15573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7635960" y="1989000"/>
            <a:ext cx="1508040" cy="13687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8"/>
          <a:stretch/>
        </p:blipFill>
        <p:spPr>
          <a:xfrm>
            <a:off x="7635960" y="0"/>
            <a:ext cx="1508040" cy="1268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9"/>
          <a:stretch/>
        </p:blipFill>
        <p:spPr>
          <a:xfrm>
            <a:off x="5508720" y="1125360"/>
            <a:ext cx="1508040" cy="1773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0"/>
          <a:stretch/>
        </p:blipFill>
        <p:spPr>
          <a:xfrm>
            <a:off x="3851280" y="0"/>
            <a:ext cx="1508040" cy="17002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1"/>
          <a:stretch/>
        </p:blipFill>
        <p:spPr>
          <a:xfrm>
            <a:off x="0" y="5248440"/>
            <a:ext cx="1143000" cy="160956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2"/>
          <a:stretch/>
        </p:blipFill>
        <p:spPr>
          <a:xfrm>
            <a:off x="539640" y="5248440"/>
            <a:ext cx="1143000" cy="16095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3"/>
          <a:stretch/>
        </p:blipFill>
        <p:spPr>
          <a:xfrm>
            <a:off x="1258920" y="5248440"/>
            <a:ext cx="1143000" cy="16095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4"/>
          <a:stretch/>
        </p:blipFill>
        <p:spPr>
          <a:xfrm>
            <a:off x="2050920" y="5248440"/>
            <a:ext cx="1143000" cy="16095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15"/>
          <a:stretch/>
        </p:blipFill>
        <p:spPr>
          <a:xfrm>
            <a:off x="2843280" y="5248440"/>
            <a:ext cx="1143000" cy="16095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16"/>
          <a:stretch/>
        </p:blipFill>
        <p:spPr>
          <a:xfrm>
            <a:off x="3924360" y="5248440"/>
            <a:ext cx="1143000" cy="16095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7"/>
          <a:stretch/>
        </p:blipFill>
        <p:spPr>
          <a:xfrm>
            <a:off x="5003640" y="5248440"/>
            <a:ext cx="1143000" cy="16095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8"/>
          <a:stretch/>
        </p:blipFill>
        <p:spPr>
          <a:xfrm>
            <a:off x="6012000" y="5248440"/>
            <a:ext cx="1143000" cy="16095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9"/>
          <a:stretch/>
        </p:blipFill>
        <p:spPr>
          <a:xfrm>
            <a:off x="7093080" y="5248440"/>
            <a:ext cx="1143000" cy="16095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0"/>
          <a:stretch/>
        </p:blipFill>
        <p:spPr>
          <a:xfrm>
            <a:off x="8001000" y="5248440"/>
            <a:ext cx="1143000" cy="16095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4653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pa concert, fiecare greieras va primi o floare. Cate flori mai trebuiesc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1"/>
          <a:stretch/>
        </p:blipFill>
        <p:spPr>
          <a:xfrm>
            <a:off x="250920" y="2708280"/>
            <a:ext cx="1508040" cy="18003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2"/>
          <a:stretch/>
        </p:blipFill>
        <p:spPr>
          <a:xfrm>
            <a:off x="2195640" y="2637000"/>
            <a:ext cx="1508040" cy="1800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3"/>
          <a:stretch/>
        </p:blipFill>
        <p:spPr>
          <a:xfrm>
            <a:off x="4284720" y="2708280"/>
            <a:ext cx="1508040" cy="18003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4"/>
          <a:stretch/>
        </p:blipFill>
        <p:spPr>
          <a:xfrm>
            <a:off x="7635960" y="3357720"/>
            <a:ext cx="150804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5640" y="2708280"/>
            <a:ext cx="7450200" cy="6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 CE NU A VENIT FURNICA LA CONCERT 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24000" y="404640"/>
            <a:ext cx="46083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Două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uburuze 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mici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Stau pe cuibul de furnici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Vin acum alt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……..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211640" y="404640"/>
            <a:ext cx="4932360" cy="3967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6732720" y="0"/>
            <a:ext cx="2050920" cy="171936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7647120" y="907920"/>
            <a:ext cx="1496880" cy="14306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0" y="4508640"/>
            <a:ext cx="1403280" cy="12427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1116000" y="3573360"/>
            <a:ext cx="1584360" cy="1403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>
            <a:off x="1332000" y="5229360"/>
            <a:ext cx="1511280" cy="13395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7"/>
          <a:stretch/>
        </p:blipFill>
        <p:spPr>
          <a:xfrm rot="20486400">
            <a:off x="2626920" y="4581000"/>
            <a:ext cx="2087640" cy="18496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8"/>
          <a:stretch/>
        </p:blipFill>
        <p:spPr>
          <a:xfrm rot="20050200">
            <a:off x="4500360" y="3789000"/>
            <a:ext cx="2590560" cy="22953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050200" y="2852640"/>
            <a:ext cx="33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ff99"/>
                </a:solidFill>
                <a:latin typeface="Arial"/>
              </a:rPr>
              <a:t>Câte furnici sunt aici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9"/>
          <a:stretch/>
        </p:blipFill>
        <p:spPr>
          <a:xfrm>
            <a:off x="7020000" y="2781360"/>
            <a:ext cx="2124000" cy="17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371600" y="3137040"/>
            <a:ext cx="6400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ATE BUBURUZE ERAU PE MUSUROI 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788000" y="1052640"/>
            <a:ext cx="1942920" cy="15984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050920" y="3139560"/>
            <a:ext cx="65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o-RO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99ff99"/>
                </a:solidFill>
                <a:latin typeface="Arial"/>
              </a:rPr>
              <a:t>D</a:t>
            </a:r>
            <a:r>
              <a:rPr b="1" i="1" lang="ro-RO" sz="2000" spc="-1" strike="noStrike">
                <a:solidFill>
                  <a:srgbClr val="99ff99"/>
                </a:solidFill>
                <a:latin typeface="Arial"/>
              </a:rPr>
              <a:t>ouă</a:t>
            </a: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ff99"/>
                </a:solidFill>
                <a:latin typeface="Arial"/>
              </a:rPr>
              <a:t>broaste </a:t>
            </a: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îngâmf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Stau pe baltă ziua toat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Şi privesc îngând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	</a:t>
            </a: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Cum </a:t>
            </a:r>
            <a:r>
              <a:rPr b="1" i="1" lang="en-US" sz="2400" spc="-1" strike="noStrike">
                <a:solidFill>
                  <a:srgbClr val="99ff99"/>
                </a:solidFill>
                <a:latin typeface="Arial"/>
              </a:rPr>
              <a:t>porumbi</a:t>
            </a:r>
            <a:r>
              <a:rPr b="1" i="1" lang="ro-RO" sz="2400" spc="-1" strike="noStrike">
                <a:solidFill>
                  <a:srgbClr val="99ff99"/>
                </a:solidFill>
                <a:latin typeface="Arial"/>
              </a:rPr>
              <a:t>-n cer înoat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5292720" y="4508640"/>
            <a:ext cx="2570040" cy="2349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979640" cy="2637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6516720" y="981000"/>
            <a:ext cx="2089080" cy="17193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5"/>
          <a:stretch/>
        </p:blipFill>
        <p:spPr>
          <a:xfrm>
            <a:off x="7415280" y="0"/>
            <a:ext cx="1728720" cy="14223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6"/>
          <a:stretch/>
        </p:blipFill>
        <p:spPr>
          <a:xfrm>
            <a:off x="5796000" y="0"/>
            <a:ext cx="1871640" cy="15397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-87840" y="5032440"/>
            <a:ext cx="476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……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SUNT……………MAI V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TI DUC RAMUL DE MASLI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943280" cy="15987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1547640" y="0"/>
            <a:ext cx="1943280" cy="15987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9"/>
          <a:stretch/>
        </p:blipFill>
        <p:spPr>
          <a:xfrm>
            <a:off x="0" y="1628640"/>
            <a:ext cx="1943280" cy="15987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0"/>
          <a:stretch/>
        </p:blipFill>
        <p:spPr>
          <a:xfrm>
            <a:off x="4140360" y="0"/>
            <a:ext cx="1942920" cy="15987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1"/>
          <a:stretch/>
        </p:blipFill>
        <p:spPr>
          <a:xfrm>
            <a:off x="3564000" y="1413000"/>
            <a:ext cx="1942920" cy="159840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2"/>
          <a:stretch/>
        </p:blipFill>
        <p:spPr>
          <a:xfrm>
            <a:off x="1403280" y="1628640"/>
            <a:ext cx="194328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690560" y="2881440"/>
            <a:ext cx="5762880" cy="108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ERGI MAI DEPARTE 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320160" y="484560"/>
            <a:ext cx="81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În grădiniţa cu flo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Au înflorit douăzeci d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ansel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1428480" cy="18385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1428840" cy="18381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1042920" y="1341360"/>
            <a:ext cx="1428840" cy="18385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755640" y="2133720"/>
            <a:ext cx="1428840" cy="18381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1476360" y="1916280"/>
            <a:ext cx="1428840" cy="18381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6"/>
          <a:stretch/>
        </p:blipFill>
        <p:spPr>
          <a:xfrm>
            <a:off x="1476360" y="2492280"/>
            <a:ext cx="1428840" cy="18385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1476360" y="3141720"/>
            <a:ext cx="1428840" cy="18381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8"/>
          <a:stretch/>
        </p:blipFill>
        <p:spPr>
          <a:xfrm>
            <a:off x="2340000" y="3141720"/>
            <a:ext cx="1428840" cy="18381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9"/>
          <a:stretch/>
        </p:blipFill>
        <p:spPr>
          <a:xfrm>
            <a:off x="3276720" y="3357720"/>
            <a:ext cx="1428480" cy="18381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0"/>
          <a:stretch/>
        </p:blipFill>
        <p:spPr>
          <a:xfrm>
            <a:off x="0" y="4005360"/>
            <a:ext cx="1428840" cy="18381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1"/>
          <a:stretch/>
        </p:blipFill>
        <p:spPr>
          <a:xfrm>
            <a:off x="2411280" y="1197000"/>
            <a:ext cx="1546200" cy="1989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12"/>
          <a:stretch/>
        </p:blipFill>
        <p:spPr>
          <a:xfrm>
            <a:off x="3780000" y="0"/>
            <a:ext cx="1546200" cy="19890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3"/>
          <a:stretch/>
        </p:blipFill>
        <p:spPr>
          <a:xfrm>
            <a:off x="3059280" y="620640"/>
            <a:ext cx="1546200" cy="19893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4"/>
          <a:stretch/>
        </p:blipFill>
        <p:spPr>
          <a:xfrm>
            <a:off x="3708360" y="1557360"/>
            <a:ext cx="1546200" cy="19890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5"/>
          <a:stretch/>
        </p:blipFill>
        <p:spPr>
          <a:xfrm>
            <a:off x="6659640" y="0"/>
            <a:ext cx="1546200" cy="1989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6"/>
          <a:stretch/>
        </p:blipFill>
        <p:spPr>
          <a:xfrm>
            <a:off x="5292720" y="0"/>
            <a:ext cx="1546200" cy="19890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17"/>
          <a:stretch/>
        </p:blipFill>
        <p:spPr>
          <a:xfrm>
            <a:off x="6300720" y="692280"/>
            <a:ext cx="1006560" cy="12952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18"/>
          <a:stretch/>
        </p:blipFill>
        <p:spPr>
          <a:xfrm>
            <a:off x="7597800" y="0"/>
            <a:ext cx="1546200" cy="19890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9"/>
          <a:stretch/>
        </p:blipFill>
        <p:spPr>
          <a:xfrm>
            <a:off x="7597800" y="692280"/>
            <a:ext cx="1008000" cy="12967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0"/>
          <a:stretch/>
        </p:blipFill>
        <p:spPr>
          <a:xfrm>
            <a:off x="4643280" y="907920"/>
            <a:ext cx="1062360" cy="13669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340600" y="2630520"/>
            <a:ext cx="316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 stau gata-mboboc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nci lalele rumen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1"/>
          <a:stretch/>
        </p:blipFill>
        <p:spPr>
          <a:xfrm rot="20859000">
            <a:off x="6581520" y="3519000"/>
            <a:ext cx="1008000" cy="261324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2"/>
          <a:stretch/>
        </p:blipFill>
        <p:spPr>
          <a:xfrm rot="19339800">
            <a:off x="5651280" y="3500280"/>
            <a:ext cx="1001520" cy="22226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3"/>
          <a:stretch/>
        </p:blipFill>
        <p:spPr>
          <a:xfrm rot="19209000">
            <a:off x="5294160" y="4427280"/>
            <a:ext cx="1162080" cy="21081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24"/>
          <a:stretch/>
        </p:blipFill>
        <p:spPr>
          <a:xfrm rot="1342200">
            <a:off x="7434000" y="3871800"/>
            <a:ext cx="936360" cy="22338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5"/>
          <a:stretch/>
        </p:blipFill>
        <p:spPr>
          <a:xfrm rot="17776800">
            <a:off x="5510160" y="4642920"/>
            <a:ext cx="1161720" cy="21081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-321840" y="5424480"/>
            <a:ext cx="58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Câte flori eu voi av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99ff99"/>
                </a:solidFill>
                <a:latin typeface="Arial"/>
              </a:rPr>
              <a:t>În buchet când ţi-l voi da?”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3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3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3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3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042920" y="2421000"/>
            <a:ext cx="7345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II SI CATI SORICEI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E LEAGANA PE FLORI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819360" cy="5904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1258920" y="1844640"/>
            <a:ext cx="819000" cy="5907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1908000" y="981000"/>
            <a:ext cx="819360" cy="5907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826920" y="2421000"/>
            <a:ext cx="819360" cy="5904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6"/>
          <a:stretch/>
        </p:blipFill>
        <p:spPr>
          <a:xfrm>
            <a:off x="900000" y="3284640"/>
            <a:ext cx="819360" cy="5904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7"/>
          <a:stretch/>
        </p:blipFill>
        <p:spPr>
          <a:xfrm>
            <a:off x="826920" y="692280"/>
            <a:ext cx="819360" cy="5904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8"/>
          <a:stretch/>
        </p:blipFill>
        <p:spPr>
          <a:xfrm>
            <a:off x="0" y="2060640"/>
            <a:ext cx="819000" cy="5904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2050920" y="260280"/>
            <a:ext cx="6337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pune o problema!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1"/>
          <a:stretch/>
        </p:blipFill>
        <p:spPr>
          <a:xfrm>
            <a:off x="5219640" y="2637000"/>
            <a:ext cx="3924360" cy="422100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12"/>
          <a:stretch/>
        </p:blipFill>
        <p:spPr>
          <a:xfrm>
            <a:off x="2843280" y="907920"/>
            <a:ext cx="819000" cy="5907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13"/>
          <a:stretch/>
        </p:blipFill>
        <p:spPr>
          <a:xfrm>
            <a:off x="2268360" y="1916280"/>
            <a:ext cx="819360" cy="5904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4"/>
          <a:stretch/>
        </p:blipFill>
        <p:spPr>
          <a:xfrm>
            <a:off x="2340000" y="2997360"/>
            <a:ext cx="819000" cy="590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755640" y="5877000"/>
            <a:ext cx="461016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e-ai descurca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9.99304E-007 C 0.03177 -0.00116 0.06354 -0.00139 0.09531 -0.00325 C 0.1 -0.00348 0.10469 -0.00742 0.10937 -0.00626 C 0.11753 -0.00417 0.12483 0.00209 0.13264 0.00626 C 0.1434 0.0262 0.15364 0.04521 0.16059 0.06816 C 0.16215 0.09506 0.15903 0.12335 0.1651 0.14908 C 0.16667 0.15534 0.17361 0.14166 0.17673 0.13656 C 0.18003 0.13123 0.18125 0.12404 0.18368 0.11801 C 0.19167 0.09877 0.2 0.08555 0.21406 0.07442 C 0.22743 0.05147 0.23333 0.04289 0.24896 0.02481 C 0.25798 0.01414 0.26719 0.00162 0.27917 -0.00325 C 0.28906 -0.00719 0.29948 -0.00881 0.30937 -0.01252 C 0.34253 -0.00139 0.34184 -0.01206 0.3559 0.01553 C 0.36562 0.03478 0.37066 0.05727 0.37917 0.07767 C 0.38385 0.08857 0.38403 0.09529 0.39305 0.09923 C 0.40937 0.09831 0.42587 0.10016 0.44184 0.09622 C 0.45104 0.0939 0.4651 0.07211 0.47222 0.06515 C 0.48542 0.06608 0.49878 0.06399 0.51163 0.06816 C 0.51805 0.07025 0.51858 0.08393 0.52101 0.08996 C 0.52378 0.09645 0.5276 0.10225 0.53021 0.10874 C 0.54288 0.14004 0.52743 0.1099 0.53958 0.13656 C 0.54722 0.15326 0.55642 0.16647 0.56059 0.18618 C 0.56215 0.19337 0.56285 0.20102 0.5651 0.20797 C 0.5691 0.22073 0.57917 0.2453 0.57917 0.2453 C 0.57986 0.25365 0.58142 0.26177 0.58142 0.27011 C 0.58142 0.32367 0.58194 0.35636 0.56753 0.40065 C 0.56389 0.41178 0.56649 0.4141 0.5559 0.42244 C 0.55173 0.42592 0.54653 0.42638 0.54184 0.42847 C 0.52535 0.44516 0.50382 0.44771 0.48368 0.45027 C 0.47535 0.45398 0.46927 0.45768 0.4651 0.46881 C 0.46198 0.47716 0.46111 0.48991 0.4559 0.49687 E">
                                      <p:cBhvr>
                                        <p:cTn id="413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00487E-006 C -0.00208 0.0007 -0.01354 0.00441 -0.01632 0.00626 C -0.0375 0.0204 -0.05121 0.0677 -0.05816 0.09645 C -0.05746 0.11407 -0.05781 0.13169 -0.0559 0.14908 C -0.05538 0.15372 -0.0526 0.1572 -0.05121 0.1616 C -0.0493 0.16763 -0.04652 0.18015 -0.04652 0.18015 C -0.04288 0.21493 -0.03368 0.23 -0.04184 0.27035 C -0.04323 0.2773 -0.04895 0.28171 -0.05347 0.28588 C -0.07187 0.30281 -0.08958 0.3035 -0.11163 0.30767 C -0.11632 0.31185 -0.12257 0.3137 -0.12569 0.31996 C -0.12829 0.32553 -0.1342 0.33782 -0.13715 0.34176 C -0.13923 0.34454 -0.14218 0.34524 -0.14427 0.34802 C -0.14913 0.35451 -0.15416 0.36471 -0.15816 0.37283 C -0.1618 0.39277 -0.15954 0.41201 -0.1559 0.43172 C -0.15659 0.43682 -0.15607 0.44285 -0.15816 0.44725 C -0.15954 0.45003 -0.16267 0.45027 -0.1651 0.4505 C -0.17829 0.45235 -0.19149 0.45259 -0.20468 0.45351 C -0.21093 0.46186 -0.21927 0.46789 -0.22326 0.47832 C -0.22639 0.48667 -0.23264 0.50336 -0.23264 0.50336 C -0.23177 0.51055 -0.23229 0.5182 -0.2302 0.52492 C -0.2217 0.55275 -0.20121 0.57779 -0.17916 0.58405 C -0.16684 0.58753 -0.15416 0.58776 -0.14184 0.59031 C -0.1 0.61187 -0.06111 0.59471 -0.01406 0.59031 C 0.00469 0.5713 0.00955 0.54023 0.02327 0.51565 C 0.02796 0.5073 0.03091 0.49687 0.03716 0.49084 C 0.0415 0.48667 0.05521 0.47206 0.06285 0.46905 C 0.07587 0.46418 0.10226 0.45676 0.10226 0.45676 C 0.1132 0.46093 0.12518 0.46116 0.1349 0.46905 L 0.17674 0.52492 C 0.18889 0.53582 0.20278 0.54324 0.21389 0.55599 C 0.22796 0.57222 0.24202 0.59031 0.26042 0.59634 C 0.27379 0.57872 0.27101 0.57408 0.27674 0.54973 C 0.28195 0.52701 0.28577 0.50429 0.29063 0.48157 C 0.29427 0.43473 0.29202 0.38836 0.28594 0.34176 C 0.28681 0.32622 0.28438 0.30976 0.28837 0.29515 C 0.29167 0.2831 0.31059 0.26826 0.31858 0.26107 C 0.32587 0.25458 0.33559 0.25435 0.3441 0.25157 C 0.34723 0.25064 0.35348 0.24855 0.35348 0.24855 C 0.3698 0.24948 0.38611 0.24994 0.40226 0.25157 C 0.41129 0.25249 0.41563 0.25527 0.42327 0.26107 C 0.4257 0.26293 0.43021 0.2671 0.43021 0.2671 E">
                                      <p:cBhvr>
                                        <p:cTn id="417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5.99815E-006 C 0.01233 -0.00115 0.02518 0.0007 0.03716 -0.00324 C 0.04271 -0.0051 0.054 -0.03037 0.05573 -0.03408 C 0.06389 -0.05031 0.06771 -0.07419 0.07674 -0.09019 C 0.079 -0.09436 0.08177 -0.09807 0.08368 -0.10248 C 0.08907 -0.11546 0.09306 -0.12937 0.09757 -0.14282 C 0.09861 -0.14583 0.09827 -0.15001 0.1 -0.15232 C 0.10243 -0.15557 0.10608 -0.15627 0.1092 -0.15835 C 0.11754 -0.14444 0.12101 -0.14235 0.12327 -0.12427 C 0.12917 -0.07628 0.11927 -0.09923 0.13021 -0.07767 C 0.12865 -0.05077 0.13177 -0.02272 0.12552 0.00302 C 0.12379 0.01021 0.11094 0.00209 0.1092 0.00928 C 0.08785 0.0946 0.129 0.0851 0.079 0.09623 C 0.075 0.09715 0.07118 0.09831 0.06736 0.09947 C 0.06511 0.11918 0.06476 0.13935 0.06042 0.15836 C 0.05973 0.16138 0.05348 0.15813 0.05348 0.16138 C 0.05348 0.1797 0.06841 0.17993 0.07674 0.18317 C 0.08993 0.18225 0.1033 0.18387 0.11615 0.18016 C 0.11858 0.17946 0.11736 0.17367 0.11858 0.17088 C 0.12361 0.15813 0.12952 0.14608 0.1349 0.13356 C 0.14202 0.11733 0.15035 0.10133 0.15573 0.08394 C 0.15764 0.07791 0.15782 0.07072 0.16042 0.06516 C 0.16285 0.05982 0.17032 0.05751 0.17431 0.05588 C 0.18525 0.05797 0.19636 0.05843 0.20695 0.06214 C 0.21129 0.06377 0.21424 0.07327 0.21858 0.07142 C 0.2224 0.06979 0.21945 0.06075 0.22084 0.05588 C 0.22257 0.04939 0.22552 0.04359 0.22778 0.03733 C 0.23299 0.00464 0.24688 -0.00649 0.25799 -0.03408 C 0.26077 -0.04103 0.26181 -0.04938 0.26511 -0.05587 C 0.27431 -0.07396 0.29167 -0.10688 0.3092 -0.115 C 0.31233 -0.11291 0.3158 -0.11175 0.31858 -0.10874 C 0.32066 -0.10642 0.32066 -0.09807 0.32327 -0.09946 C 0.32934 -0.10248 0.33195 -0.11291 0.33716 -0.11801 C 0.35035 -0.13099 0.34861 -0.13563 0.36511 -0.1398 C 0.36667 -0.14282 0.36702 -0.15024 0.36962 -0.14908 C 0.37639 -0.14606 0.38004 -0.13609 0.38594 -0.13053 C 0.39132 -0.12543 0.39844 -0.1245 0.40452 -0.12126 C 0.40608 -0.11801 0.40782 -0.115 0.4092 -0.11175 C 0.41094 -0.10781 0.41059 -0.09807 0.41389 -0.09946 C 0.41927 -0.10178 0.41997 -0.11198 0.42327 -0.11801 C 0.43021 -0.1303 0.43698 -0.14398 0.44653 -0.15232 C 0.47101 -0.14398 0.46337 -0.15163 0.48125 -0.12126 C 0.49011 -0.10595 0.50695 -0.07465 0.50695 -0.07465 C 0.50868 -0.06468 0.51094 -0.03825 0.50452 -0.03106 C 0.50122 -0.02759 0.4967 -0.02689 0.49289 -0.0248 C 0.48368 -0.00602 0.48837 -0.01924 0.48837 0.01855 E">
                                      <p:cBhvr>
                                        <p:cTn id="421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476360" y="836640"/>
            <a:ext cx="4535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BSERVA,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557440" y="3098880"/>
            <a:ext cx="4029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LCULEAZA 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  <p:sndAc>
      <p:stSnd>
        <p:snd r:embed="rId3" name="SP0000.WAV"/>
      </p:stSnd>
    </p:sndAc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 rot="20278200">
            <a:off x="900000" y="1844280"/>
            <a:ext cx="1467000" cy="1174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 rot="20932200">
            <a:off x="3493800" y="1368000"/>
            <a:ext cx="1709640" cy="1295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524720" y="404640"/>
            <a:ext cx="1251000" cy="1079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 rot="21429600">
            <a:off x="3419640" y="549000"/>
            <a:ext cx="1322280" cy="865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 rot="410400">
            <a:off x="4066920" y="2636640"/>
            <a:ext cx="1430280" cy="10825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 rot="20011200">
            <a:off x="1476360" y="2852640"/>
            <a:ext cx="1287360" cy="9511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2771640" y="2529000"/>
            <a:ext cx="1395720" cy="1044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>
            <a:off x="971640" y="836640"/>
            <a:ext cx="1322280" cy="11509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0"/>
          <a:stretch/>
        </p:blipFill>
        <p:spPr>
          <a:xfrm rot="20619600">
            <a:off x="2124000" y="1700280"/>
            <a:ext cx="1513080" cy="9367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1"/>
          <a:stretch/>
        </p:blipFill>
        <p:spPr>
          <a:xfrm>
            <a:off x="5796000" y="620640"/>
            <a:ext cx="1440000" cy="10954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2"/>
          <a:stretch/>
        </p:blipFill>
        <p:spPr>
          <a:xfrm>
            <a:off x="2268360" y="620640"/>
            <a:ext cx="1224000" cy="9511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3"/>
          <a:stretch/>
        </p:blipFill>
        <p:spPr>
          <a:xfrm>
            <a:off x="4788000" y="1197000"/>
            <a:ext cx="1106280" cy="1295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4"/>
          <a:stretch/>
        </p:blipFill>
        <p:spPr>
          <a:xfrm>
            <a:off x="7740720" y="1628640"/>
            <a:ext cx="1079280" cy="12956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5"/>
          <a:stretch/>
        </p:blipFill>
        <p:spPr>
          <a:xfrm>
            <a:off x="5940360" y="1916280"/>
            <a:ext cx="154008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0" y="4005360"/>
            <a:ext cx="40291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nt......albinu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64000" y="4653000"/>
            <a:ext cx="25909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leaca.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4360" y="5229360"/>
            <a:ext cx="5832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te albinute raman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732720" y="5808600"/>
            <a:ext cx="129528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195560" y="2340000"/>
            <a:ext cx="675288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ACA ITI PLAC FRUCTELE,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NU RUPE FLORILE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16000" y="2160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31640" y="43164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647640" y="64764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863640" y="86364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1079640" y="107964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1295280" y="1295280"/>
            <a:ext cx="1295640" cy="12956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8"/>
          <a:stretch/>
        </p:blipFill>
        <p:spPr>
          <a:xfrm>
            <a:off x="1511280" y="15112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9"/>
          <a:stretch/>
        </p:blipFill>
        <p:spPr>
          <a:xfrm>
            <a:off x="1476360" y="1773360"/>
            <a:ext cx="1582920" cy="15825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0"/>
          <a:stretch/>
        </p:blipFill>
        <p:spPr>
          <a:xfrm>
            <a:off x="1763640" y="213372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1"/>
          <a:stretch/>
        </p:blipFill>
        <p:spPr>
          <a:xfrm>
            <a:off x="2700360" y="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2"/>
          <a:stretch/>
        </p:blipFill>
        <p:spPr>
          <a:xfrm>
            <a:off x="3419640" y="6922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3"/>
          <a:stretch/>
        </p:blipFill>
        <p:spPr>
          <a:xfrm>
            <a:off x="4067280" y="112536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4"/>
          <a:stretch/>
        </p:blipFill>
        <p:spPr>
          <a:xfrm>
            <a:off x="4643280" y="184464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5"/>
          <a:stretch/>
        </p:blipFill>
        <p:spPr>
          <a:xfrm>
            <a:off x="5364000" y="24210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6"/>
          <a:stretch/>
        </p:blipFill>
        <p:spPr>
          <a:xfrm>
            <a:off x="6012000" y="321300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24000" y="3429000"/>
            <a:ext cx="3733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clipesc.........stelu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987640" y="4724280"/>
            <a:ext cx="4791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luneca ......stelut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71640" y="3141720"/>
            <a:ext cx="71913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ate stelute raman pe bolta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2" name=""/>
          <p:cNvSpPr/>
          <p:nvPr/>
        </p:nvSpPr>
        <p:spPr>
          <a:xfrm>
            <a:off x="3113280" y="35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05640" y="114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53280" y="157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29640" y="22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7728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26360" y="366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21640" y="265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3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2114640" y="3137040"/>
            <a:ext cx="491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IGUR AI RASPUNS CORECT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300720" y="4941720"/>
            <a:ext cx="199404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33360" y="260280"/>
            <a:ext cx="88106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 poiana se joaca....flori si......gaz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2050920" cy="17683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050920" y="1197000"/>
            <a:ext cx="1657440" cy="1809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3635280" y="1197000"/>
            <a:ext cx="1656000" cy="1809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5219640" y="1125360"/>
            <a:ext cx="2016360" cy="1810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7128000" y="1125360"/>
            <a:ext cx="2016000" cy="18003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755640" y="3357720"/>
            <a:ext cx="4392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 total.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4724280"/>
            <a:ext cx="3886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i vin...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4427640" y="4292640"/>
            <a:ext cx="1065240" cy="13683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6156360" y="3141720"/>
            <a:ext cx="1441440" cy="1305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8"/>
          <a:stretch/>
        </p:blipFill>
        <p:spPr>
          <a:xfrm>
            <a:off x="7667640" y="3716280"/>
            <a:ext cx="1208160" cy="10936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9"/>
          <a:stretch/>
        </p:blipFill>
        <p:spPr>
          <a:xfrm>
            <a:off x="6443640" y="4653000"/>
            <a:ext cx="1295280" cy="11732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250920" y="5516640"/>
            <a:ext cx="6181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te gaze sunt de toat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029120" y="6210360"/>
            <a:ext cx="511488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tii si cate floricele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219240" y="3098880"/>
            <a:ext cx="8705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UMESTE 3 FLORI DE PRIMAVAR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539640" y="1989000"/>
            <a:ext cx="3990960" cy="85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 gradina lui Andrei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tau de paza........catei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7164360" y="-316080"/>
            <a:ext cx="1430280" cy="2160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203640" y="0"/>
            <a:ext cx="1574640" cy="15127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1692360" y="0"/>
            <a:ext cx="1358640" cy="1873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5292720" y="0"/>
            <a:ext cx="1430280" cy="2016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4932360" y="3284640"/>
            <a:ext cx="1581120" cy="14475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"/>
          <a:stretch/>
        </p:blipFill>
        <p:spPr>
          <a:xfrm>
            <a:off x="5724360" y="4653000"/>
            <a:ext cx="1581480" cy="14479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7562880" y="3284640"/>
            <a:ext cx="1581120" cy="14475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>
            <a:off x="4211640" y="4618080"/>
            <a:ext cx="1581120" cy="14479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0"/>
          <a:stretch/>
        </p:blipFill>
        <p:spPr>
          <a:xfrm>
            <a:off x="2627280" y="4618080"/>
            <a:ext cx="1581120" cy="14479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1"/>
          <a:stretch/>
        </p:blipFill>
        <p:spPr>
          <a:xfrm>
            <a:off x="3492360" y="3284640"/>
            <a:ext cx="1581120" cy="1447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2"/>
          <a:stretch/>
        </p:blipFill>
        <p:spPr>
          <a:xfrm>
            <a:off x="1258920" y="4618080"/>
            <a:ext cx="1581120" cy="14479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13"/>
          <a:stretch/>
        </p:blipFill>
        <p:spPr>
          <a:xfrm>
            <a:off x="1979640" y="3284640"/>
            <a:ext cx="1581120" cy="14475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4"/>
          <a:stretch/>
        </p:blipFill>
        <p:spPr>
          <a:xfrm>
            <a:off x="0" y="4653000"/>
            <a:ext cx="1581120" cy="14479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15"/>
          <a:stretch/>
        </p:blipFill>
        <p:spPr>
          <a:xfrm>
            <a:off x="6156360" y="3284640"/>
            <a:ext cx="1581120" cy="14475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4494600" y="2400480"/>
            <a:ext cx="37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ff99"/>
                </a:solidFill>
                <a:latin typeface="Arial"/>
              </a:rPr>
              <a:t>AU VENIT ŞI ……..MẬŢ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9ff99"/>
                </a:solidFill>
                <a:latin typeface="Arial"/>
              </a:rPr>
              <a:t>PE CAŢEI SA ÎI AŢẬŢ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2560" y="6093000"/>
            <a:ext cx="64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te animale mici, stau de paza acum aic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9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0" y="2986200"/>
            <a:ext cx="8604360" cy="16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E CAINELE TAU CUM IL CHEAMA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22:23:15Z</dcterms:created>
  <dc:creator>Monica</dc:creator>
  <dc:description/>
  <dc:language>en-US</dc:language>
  <cp:lastModifiedBy>Monica</cp:lastModifiedBy>
  <dcterms:modified xsi:type="dcterms:W3CDTF">2007-03-05T14:51:12Z</dcterms:modified>
  <cp:revision>7</cp:revision>
  <dc:subject/>
  <dc:title>Diapozitivul 1</dc:title>
</cp:coreProperties>
</file>